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8AE-81F4-4BF8-9E17-E194B9EC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7F4-CA53-4D5E-8CCE-14E00B01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00F-0650-45A8-837F-5B274F47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A52-8FBF-4356-82C3-4BCDA9C6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89CF-0689-4AD1-A822-8F0E8228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A011-0EB2-41A7-9EF9-2AA988A5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C6F6-6238-4863-9EE7-2976743C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373A-2CE3-4F72-B5A7-A859D55E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BE85-D686-46ED-A402-8FCCD4B3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094E-AF7B-4053-8B8A-10FF59D9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B067-0FEB-4D4A-82AD-3E825AA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42F-6363-4F86-993B-87D92344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238B-E6AB-485E-BA21-62B45B04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E8D-FE7E-44F4-A63E-D0F6823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FB75-69A9-4F4B-B83D-C479A9A9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C835-1F35-42EB-9D49-2B5C4A80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6E44-3CCA-4EDF-B564-EC5C5BBE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CD6-DD29-4E98-A84B-DF71C588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808-8332-418C-AFC3-5406BA10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4D5-6825-4F52-BEC4-8295111F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4CB-ADD4-4B0D-9BE5-FF7056B5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721-0782-411C-B4D7-7767B46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21D-D208-487E-AF7E-0DEB9015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22C-DF74-4E56-8920-2B067BC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A90-EF47-4F3C-8B73-5AD0B60C2B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C634-F27A-42EA-ACFB-544A4AABCF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Arkansas in the Progressive Era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00-19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Davis was not related to the former president of the Confederacy, but he didn’t mind if voters thought he w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act, he often dressed in Confederate gray suits to make sure everyone noti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Jeff Davis"/>
          <p:cNvPicPr/>
          <p:nvPr/>
        </p:nvPicPr>
        <p:blipFill>
          <a:blip r:embed="rId1"/>
          <a:stretch/>
        </p:blipFill>
        <p:spPr>
          <a:xfrm>
            <a:off x="439596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the state’s attorney general in 1898, he dug up the state anti-trust law that prevented monopolies, but had never been enforced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 knew that the common people of AR blamed many of their troubles on trus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, he filed a law suit against the insurance companies, which people disliked the mo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insurance companies cancelled their policies in AR as a resul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 merchants in Arkansas were shocked and afraid Davis would run all business out of Arkan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more the high collar crowd attacked him, the more the wool hat boys supported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Reconstruction there was a primary system in Arkansas allowing the people to nominate their party candid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0, Davis became the Democratic candidate for governor even though the party leaders didn’t like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vis as Govern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s was to serve three terms as governor from 1901-190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achieved little, stirred up a lot of conflict, and couldn’t work with the General Assemb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one point Davis vetoed the bills for an entire session of the legislat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vis and the Prison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area in which Davis made some headway was with the state’s disgraceful prison 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leasing out convicts the state had no control over them and they were abu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ome years the annual death rate among inmates was 25%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ystem earned the state $25,000 a y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 politicians had the courage to raise taxes to pay for a better syste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report on some of the conditions that inmates lived in caused such a scandal that the state was forced to adopt a penal farm syste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tate bought two plantations for the inmates to work on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way the state was taking back control of the inmates, but having them still pay for themselv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avis didn’t like spending the money to buy the farms, but he raised his voice against the horrors of the convict-lease system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e also started a reform school for boys so that children in trouble with the law didn’t have to serve in prison with grown men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e pardoned hundreds of African-American convict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But, at the same time he became more and more racist in his speeche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vis in the Sen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6 Davis was elected to the U.S. Sen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ethods of manipulation did not work as well here, so he spent most of his time at home with his family in Little R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n a second term in Senate in 1912, but only by a small marg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ayed, Davis died of a heart attack at his home, January 1, 1913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76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Arkansas Progressiv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76680" y="457200"/>
            <a:ext cx="3048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 movement did come to Arkansas after Dav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me mostly in the persons of George W. Donaghey and Charles H. Br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Charles Brough"/>
          <p:cNvPicPr/>
          <p:nvPr/>
        </p:nvPicPr>
        <p:blipFill>
          <a:blip r:embed="rId1"/>
          <a:srcRect l="7642" t="6556" r="11841" b="8199"/>
          <a:stretch/>
        </p:blipFill>
        <p:spPr>
          <a:xfrm>
            <a:off x="5932440" y="1828800"/>
            <a:ext cx="3287880" cy="502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George Donaghey"/>
          <p:cNvPicPr/>
          <p:nvPr/>
        </p:nvPicPr>
        <p:blipFill>
          <a:blip r:embed="rId2"/>
          <a:srcRect l="4745" t="3285" r="7642" b="4914"/>
          <a:stretch/>
        </p:blipFill>
        <p:spPr>
          <a:xfrm>
            <a:off x="2592360" y="1828800"/>
            <a:ext cx="332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rge W. Donaghe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orn in Louisiana, Donaghey worked in Texas as a cowboy before moving to Conway, AR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n Arkansas he worked as a carpenter and became a major builder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e was named to the state capitol building commission, and that sparked his interest in politic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e became governor in 1909 and served until 1913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ontier ways of life are fad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across America are moving to the cities in large numb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seph T. Robin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aghey lost his bid for a third term to Joseph T. Robinson, a member of cong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avis died just three days before Robinson was to take off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gislature promptly chose Robinson to be senat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-52318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 space of two weeks Robinson was congressman, governor, and senator at the sam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Joe Robinson"/>
          <p:cNvPicPr/>
          <p:nvPr/>
        </p:nvPicPr>
        <p:blipFill>
          <a:blip r:embed="rId1"/>
          <a:stretch/>
        </p:blipFill>
        <p:spPr>
          <a:xfrm>
            <a:off x="442908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rge W. H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ys was a lawyer and county judge from Camden with little taste for ref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erved two terms as governor from 1913 to 191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George Washington Hays"/>
          <p:cNvPicPr/>
          <p:nvPr/>
        </p:nvPicPr>
        <p:blipFill>
          <a:blip r:embed="rId1"/>
          <a:stretch/>
        </p:blipFill>
        <p:spPr>
          <a:xfrm>
            <a:off x="4645080" y="228600"/>
            <a:ext cx="4589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les H. Broug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a professor at the U of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Ph.D. i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 for governor in 1916 on a reform plat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rved two terms from 1917-19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Charles Brough"/>
          <p:cNvPicPr/>
          <p:nvPr/>
        </p:nvPicPr>
        <p:blipFill>
          <a:blip r:embed="rId1"/>
          <a:stretch/>
        </p:blipFill>
        <p:spPr>
          <a:xfrm>
            <a:off x="5451480" y="1523880"/>
            <a:ext cx="3692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tionw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ly half of American states had some form of reform government during this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ublican President Teddy Roosevelt (1901-1909), and Democratic President Woodrow Wilson (1913-1921) showed that government actions could improve the lives of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ess in Arkans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 to Donaghey, Robinson, and Brough, Arkansas began to make real progress in provi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son Re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mprovements in Edu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4 Arkansas was at the bottom of the list in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0 fewer than half of the school aged children attended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were paid half of what other states p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would run three months in summer and three months in winter if they had a st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began to address some of these proble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laws required all children between seven and fifteen years of age to attend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called for standard textbooks in the grade schoo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umber of high schools more than doubled between 1909 and 191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efforts of the Arkansas Farmers’ Union, four technical high schools opened in 190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taught farming and textile ma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11, the state formed a State Board of Edu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1920 over half of school aged children were going to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07 the state opened the State Normal School at Conway to prepare teac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later became the University of Central Arkans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bad roads, students in Arkansas could not travel far to go to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aused an extremely large number of school distric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12, there were 5,143 school distric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kansas began to see its first major industr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industries in Arkansas became timber and min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gregation in Schoo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school systems were still racially segregated and far from equ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spent about twice as much on white schools as it did on black schoo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ere very few African American high schools in the st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cy R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 about 20% of people in Arkansas could not re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20 the number was down to 9.4% who could not re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omobi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ming of automobiles to Arkansas brought the start of a road 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03 there were only 50 cars in the state, but the owners formed the Arkansas Good Roads Associ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tarted to lobby for new laws to promote road build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09 the legislature passed a law that allowed local improvement districts to levy local taxes to pay for road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13 the State Department of Lands, Highways, and Improvements, was start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14 there were 4,800 cars in Arkansas, and the state required drivers to have a licen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13 the Ozark Trails Association began marking roads clearly by painting white rings around the trees on the side of the road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16 the Federal Road Act pas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is act the U.S. government paid half the cost of road buil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21 Arkansas had 7,000 miles of ro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along with the road system came a large debt that would cause trouble later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two hundred miles of state’s highways were all-weather, hard surfaced ro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Healthier St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mproved life in Arkansas more than new knowledge and action on how to prevent and cure dis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in science gave government workers the ability to control many of the diseases that had given Arkansas the reputation of being an unhealthy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Malaria had weakened Arkansans through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dical research discovered that malaria was caused by a germ carried by mosquito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meant malaria could be controll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raining swamps to make more land for farming and spraying areas of standing water could prevent breeding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vises as simple as window screens could keep out insects and help prevent malari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 of medical research also led to the end of hookworm and pellagra, diseases that made a person tired all th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egan to suspect that the image of the “lazy south” was because of these dis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te joined the nationwide public health movement by forming the state Board of Health in 19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laws required doctors of all types, dentists, nurses, midwives, and embalmers to be licen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built a tuberculosis hospit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kansas also passed the nation’s first law requiring children to have a smallpox sh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ns began to build pure water systems and sewer syste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en began to form the Red Cross, Arkansas Tuberculosis Association, and the Arkansas Society for Crippled Childre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rkansas Federation of Women’s Clubs began to sponsor “healthy baby” contests to promote and reward concern about health in the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ventions of the Progressive E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ere many inventions during this time that greatly affected the way people li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rpl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 ligh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ion pi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ce and medic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essive Move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rge to adjust America’s institutions to match the modern way of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rban middle-class wanted chan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ed for change was called “progressive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eople began to have more time and money to spend on civil re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esults in AR were impress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Need for Government Interven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s such as big business, low wages, bad working conditions, and the need for more schools, seemed to need government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Progressives believed the state governments should step in and take responsibiliti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rmers in Poli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mers in Arkansas felt like they were being left out of politic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thought no one in power paid any attention to th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ity-dwellers were seen as “rich folks” by the common farm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rmers’ anger at being left out found an outlet in Jeff Da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eff Dav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hough he was a lawyer raised in the city, Davis had a way of reaching the small farm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were his “wool hat boys” vs. the silk-hat crowd of the c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s dominated Arkansas politics for 10 years as the champion for the poor whites over the ri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s expressed ideas from both the populist movement and the new progressive move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ever, his main goal was to get in office and stay in office, so his actual accomplishments were fe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almost a demagogue, a person who gains power by stirring up the fears and biases of the publi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also a raci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8:47:43Z</dcterms:created>
  <dc:creator>tbutts</dc:creator>
  <dc:description/>
  <dc:language>en-US</dc:language>
  <cp:lastModifiedBy>tbutts</cp:lastModifiedBy>
  <dcterms:modified xsi:type="dcterms:W3CDTF">2005-04-13T13:59:12Z</dcterms:modified>
  <cp:revision>4</cp:revision>
  <dc:subject/>
  <dc:title>Arkansas in the Progressive Era</dc:title>
</cp:coreProperties>
</file>